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9E246-1AA4-4862-B48F-AC8956F8A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EAF88-85D0-4486-BC7A-2422240C4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D814F-3B40-4488-B626-8F3287B77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A576A-2CFF-41B8-9149-457C2E0DC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420EC-F034-4DFF-88CC-B6AAA592B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7196A-3F80-4839-B5B2-A9175D848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A7BFE-47E7-4626-8C2D-BCD191B5C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871D6-6B83-4E0C-BCCC-5665837E7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47649-43BC-486D-A5EC-4DB315E04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C22E2-5BA7-41C9-A1AF-C2F1EC459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B586E-73B6-432D-8317-969E6FB9C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1333F-6F17-4247-90C4-3AE4D2C0C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8E90B-A0D6-4ED3-989C-EFF3EA3C4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4CB95-202C-44D8-91B9-8A94A41E7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0DAD0-998B-4F3C-B6DB-943CB1EE8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1FFF0-1438-4722-89C7-D7E86DA32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245BE-6606-4E54-A680-3174252A8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94450-6EA6-4440-9EA6-ABE82DB81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FEB2C-1E18-458F-8FB9-EB233E4E1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4BF09-D58E-4754-A0C4-04281AAF0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74EC0-FDCD-429E-814F-F506E7AF6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22FE9-C1EA-46E7-9BF0-5DC4FD74A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12B98-D690-424E-B8BE-279CABC01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9E04D-9E9F-406A-8CA0-0239D4E1F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E7440-473E-4FC3-9470-203612CBAE6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C800E-C41C-4E30-9DB5-3B4E9BB0744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 rtl="1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 rtl="1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 rtl="1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3062160" y="3048120"/>
            <a:ext cx="3110040" cy="8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38160">
                  <a:solidFill>
                    <a:srgbClr val="ffff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e_Granada"/>
              </a:rPr>
              <a:t>القصه</a:t>
            </a:r>
            <a:endParaRPr b="1" lang="en-US" sz="1800" spc="1" strike="noStrike">
              <a:ln w="38160">
                <a:solidFill>
                  <a:srgbClr val="ffff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e_Granada"/>
              <a:ea typeface="ae_Granada"/>
            </a:endParaRPr>
          </a:p>
        </p:txBody>
      </p:sp>
      <p:sp>
        <p:nvSpPr>
          <p:cNvPr id="121" name=""/>
          <p:cNvSpPr txBox="1"/>
          <p:nvPr/>
        </p:nvSpPr>
        <p:spPr>
          <a:xfrm rot="5400000">
            <a:off x="-1428840" y="3819600"/>
            <a:ext cx="43056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path path="rect">
                    <a:fillToRect l="50000" t="50000" r="50000" b="50000"/>
                  </a:path>
                </a:gradFill>
                <a:latin typeface="B Elham"/>
              </a:rPr>
              <a:t>الصف الثالث الإعدادى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path path="rect">
                  <a:fillToRect l="50000" t="50000" r="50000" b="50000"/>
                </a:path>
              </a:gradFill>
              <a:latin typeface="B Elham"/>
              <a:ea typeface="B Elham"/>
            </a:endParaRPr>
          </a:p>
        </p:txBody>
      </p:sp>
      <p:sp>
        <p:nvSpPr>
          <p:cNvPr id="122" name=""/>
          <p:cNvSpPr txBox="1"/>
          <p:nvPr/>
        </p:nvSpPr>
        <p:spPr>
          <a:xfrm rot="16200000">
            <a:off x="6215040" y="3810240"/>
            <a:ext cx="4300560" cy="90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path path="rect">
                    <a:fillToRect l="50000" t="50000" r="50000" b="50000"/>
                  </a:path>
                </a:gradFill>
                <a:latin typeface="B Elham"/>
              </a:rPr>
              <a:t>رحله إلى مركز الأرض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path path="rect">
                  <a:fillToRect l="50000" t="50000" r="50000" b="50000"/>
                </a:path>
              </a:gradFill>
              <a:latin typeface="B Elham"/>
              <a:ea typeface="B Elham"/>
            </a:endParaRPr>
          </a:p>
        </p:txBody>
      </p:sp>
    </p:spTree>
  </p:cSld>
  <p:transition advTm="3000">
    <p:push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533520" y="1495440"/>
            <a:ext cx="8076960" cy="1171440"/>
          </a:xfrm>
          <a:prstGeom prst="flowChartAlternateProcess">
            <a:avLst/>
          </a:pr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181080" y="414360"/>
            <a:ext cx="876276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381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75"/>
                    </a:gs>
                    <a:gs pos="50000">
                      <a:srgbClr val="0000ff"/>
                    </a:gs>
                    <a:gs pos="100000">
                      <a:srgbClr val="000075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B Esfehan"/>
              </a:rPr>
              <a:t>قصــــــــه</a:t>
            </a:r>
            <a:endParaRPr b="1" lang="en-US" sz="1800" spc="1" strike="noStrike">
              <a:ln w="381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75"/>
                  </a:gs>
                  <a:gs pos="50000">
                    <a:srgbClr val="0000ff"/>
                  </a:gs>
                  <a:gs pos="100000">
                    <a:srgbClr val="000075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B Esfehan"/>
              <a:ea typeface="B Esfehan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42960" y="1528920"/>
            <a:ext cx="7772400" cy="52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50000">
                      <a:srgbClr val="ffff00"/>
                    </a:gs>
                    <a:gs pos="100000">
                      <a:srgbClr val="ff00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Jerk"/>
              </a:rPr>
              <a:t>Journey To The Centre Of The Earth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50000">
                    <a:srgbClr val="ffff00"/>
                  </a:gs>
                  <a:gs pos="100000">
                    <a:srgbClr val="ff0000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Jerk"/>
              <a:ea typeface="Jerk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914400" y="2776680"/>
            <a:ext cx="3581280" cy="519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ffffff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Characters</a:t>
            </a:r>
            <a:endParaRPr b="1" lang="en-US" sz="1800" spc="1" strike="noStrike">
              <a:ln w="28440">
                <a:solidFill>
                  <a:srgbClr val="ffffff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209520" y="3624120"/>
            <a:ext cx="8520120" cy="473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Axel: A young boy who lives with his uncle Professor Lidenbrock .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843440" y="2762280"/>
            <a:ext cx="3200400" cy="690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28440">
                  <a:solidFill>
                    <a:srgbClr val="ffffff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FS_Cairo"/>
              </a:rPr>
              <a:t>الشخصيات</a:t>
            </a:r>
            <a:endParaRPr b="1" lang="en-US" sz="1800" spc="1" strike="noStrike">
              <a:ln w="28440">
                <a:solidFill>
                  <a:srgbClr val="ffffff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FS_Cairo"/>
              <a:ea typeface="FS_Cairo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2409840" y="4033800"/>
            <a:ext cx="6529320" cy="4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00cc00"/>
                </a:solidFill>
                <a:latin typeface="Basha 8C"/>
              </a:rPr>
              <a:t>أكسل: شاب يعيش مع عمه بروفيسير ليدنبروك .</a:t>
            </a:r>
            <a:endParaRPr b="1" lang="en-US" sz="1800" spc="1" strike="noStrike">
              <a:ln w="0">
                <a:noFill/>
              </a:ln>
              <a:solidFill>
                <a:srgbClr val="00cc00"/>
              </a:solidFill>
              <a:latin typeface="Basha 8C"/>
              <a:ea typeface="Basha 8C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247760" y="490680"/>
            <a:ext cx="4829040" cy="64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17175e"/>
                    </a:gs>
                    <a:gs pos="50000">
                      <a:srgbClr val="3333cc"/>
                    </a:gs>
                    <a:gs pos="100000">
                      <a:srgbClr val="17175e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STORY</a:t>
            </a:r>
            <a:endParaRPr b="0" lang="en-US" sz="1800" spc="1" strike="noStrike">
              <a:ln w="381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17175e"/>
                  </a:gs>
                  <a:gs pos="50000">
                    <a:srgbClr val="3333cc"/>
                  </a:gs>
                  <a:gs pos="100000">
                    <a:srgbClr val="17175e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1143000" y="2090880"/>
            <a:ext cx="6705720" cy="509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50000">
                      <a:srgbClr val="ffff00"/>
                    </a:gs>
                    <a:gs pos="100000">
                      <a:srgbClr val="ff00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KacstArt"/>
              </a:rPr>
              <a:t>رحله إلى مركز الأرض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50000">
                    <a:srgbClr val="ffff00"/>
                  </a:gs>
                  <a:gs pos="100000">
                    <a:srgbClr val="ff0000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KacstArt"/>
              <a:ea typeface="KacstArt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90440" y="4629240"/>
            <a:ext cx="860112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Professor Lidenbrock: A famous scientist and geologist . Axel’ s uncle .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523880" y="5100480"/>
            <a:ext cx="7410600" cy="4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00cc00"/>
                </a:solidFill>
                <a:latin typeface="Basha 8C"/>
              </a:rPr>
              <a:t>بروفيسير ليدنبروك: عالم مشهور وجيولوجى ، عم أكسل .</a:t>
            </a:r>
            <a:endParaRPr b="1" lang="en-US" sz="1800" spc="1" strike="noStrike">
              <a:ln w="0">
                <a:noFill/>
              </a:ln>
              <a:solidFill>
                <a:srgbClr val="00cc00"/>
              </a:solidFill>
              <a:latin typeface="Basha 8C"/>
              <a:ea typeface="Basha 8C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95120" y="5681520"/>
            <a:ext cx="6205680" cy="32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Martha: Professor Lidenbrock’ s cook .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505320" y="6062760"/>
            <a:ext cx="5429160" cy="366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00cc00"/>
                </a:solidFill>
                <a:latin typeface="Basha 8C"/>
              </a:rPr>
              <a:t>مارثا: طباخة بروفيسير ليدنبروك .</a:t>
            </a:r>
            <a:endParaRPr b="1" lang="en-US" sz="1800" spc="1" strike="noStrike">
              <a:ln w="0">
                <a:noFill/>
              </a:ln>
              <a:solidFill>
                <a:srgbClr val="00cc00"/>
              </a:solidFill>
              <a:latin typeface="Basha 8C"/>
              <a:ea typeface="Basha 8C"/>
            </a:endParaRPr>
          </a:p>
        </p:txBody>
      </p:sp>
    </p:spTree>
  </p:cSld>
  <p:transition advTm="3000">
    <p:push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195120" y="547560"/>
            <a:ext cx="46818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Hans: A guide from Iceland .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5257800" y="914400"/>
            <a:ext cx="367668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00cc00"/>
                </a:solidFill>
                <a:latin typeface="Basha 8C"/>
              </a:rPr>
              <a:t>هانز: مرشد من أيسلندا .</a:t>
            </a:r>
            <a:endParaRPr b="1" lang="en-US" sz="1800" spc="1" strike="noStrike">
              <a:ln w="0">
                <a:noFill/>
              </a:ln>
              <a:solidFill>
                <a:srgbClr val="00cc00"/>
              </a:solidFill>
              <a:latin typeface="Basha 8C"/>
              <a:ea typeface="Basha 8C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200160" y="1442880"/>
            <a:ext cx="604836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Dr Fridrikson: A scientist from Iceland .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200160" y="2308320"/>
            <a:ext cx="5209920" cy="511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Jules Verne: A writer of the story .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00160" y="3195720"/>
            <a:ext cx="696276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Snorri Sturlasson: A writer of the old book .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95120" y="4052880"/>
            <a:ext cx="7653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Arne Saknussemm: A writer of the parchment .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276720" y="1857240"/>
            <a:ext cx="565776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00cc00"/>
                </a:solidFill>
                <a:latin typeface="Basha 8C"/>
              </a:rPr>
              <a:t>دكتور فريدريكسون: عالم من أيسلندا .</a:t>
            </a:r>
            <a:endParaRPr b="1" lang="en-US" sz="1800" spc="1" strike="noStrike">
              <a:ln w="0">
                <a:noFill/>
              </a:ln>
              <a:solidFill>
                <a:srgbClr val="00cc00"/>
              </a:solidFill>
              <a:latin typeface="Basha 8C"/>
              <a:ea typeface="Basha 8C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952880" y="2824200"/>
            <a:ext cx="3981600" cy="29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00cc00"/>
                </a:solidFill>
                <a:latin typeface="Basha 8C"/>
              </a:rPr>
              <a:t>جول فيرن: كاتب القصه .</a:t>
            </a:r>
            <a:endParaRPr b="1" lang="en-US" sz="1800" spc="1" strike="noStrike">
              <a:ln w="0">
                <a:noFill/>
              </a:ln>
              <a:solidFill>
                <a:srgbClr val="00cc00"/>
              </a:solidFill>
              <a:latin typeface="Basha 8C"/>
              <a:ea typeface="Basha 8C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657600" y="3648240"/>
            <a:ext cx="5276880" cy="37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00cc00"/>
                </a:solidFill>
                <a:latin typeface="Basha 8C"/>
              </a:rPr>
              <a:t>سنورى سترلاسون: كاتب الكتاب القديم .</a:t>
            </a:r>
            <a:endParaRPr b="1" lang="en-US" sz="1800" spc="1" strike="noStrike">
              <a:ln w="0">
                <a:noFill/>
              </a:ln>
              <a:solidFill>
                <a:srgbClr val="00cc00"/>
              </a:solidFill>
              <a:latin typeface="Basha 8C"/>
              <a:ea typeface="Basha 8C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448160" y="4557600"/>
            <a:ext cx="449568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00cc00"/>
                </a:solidFill>
                <a:latin typeface="Basha 8C"/>
              </a:rPr>
              <a:t>آرن ساكنوسم: كاتب البرشمان .</a:t>
            </a:r>
            <a:endParaRPr b="1" lang="en-US" sz="1800" spc="1" strike="noStrike">
              <a:ln w="0">
                <a:noFill/>
              </a:ln>
              <a:solidFill>
                <a:srgbClr val="00cc00"/>
              </a:solidFill>
              <a:latin typeface="Basha 8C"/>
              <a:ea typeface="Basha 8C"/>
            </a:endParaRPr>
          </a:p>
        </p:txBody>
      </p:sp>
    </p:spTree>
  </p:cSld>
  <p:transition advTm="3000">
    <p:push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1066680" y="423720"/>
            <a:ext cx="3429000" cy="40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ffffff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Places</a:t>
            </a:r>
            <a:endParaRPr b="1" lang="en-US" sz="1800" spc="1" strike="noStrike">
              <a:ln w="28440">
                <a:solidFill>
                  <a:srgbClr val="ffffff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200160" y="1162080"/>
            <a:ext cx="490536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Hamburg: A city in Germany .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829040" y="380880"/>
            <a:ext cx="3124440" cy="4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28440">
                  <a:solidFill>
                    <a:srgbClr val="ffffff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FS_Cairo"/>
              </a:rPr>
              <a:t>الأماكن</a:t>
            </a:r>
            <a:endParaRPr b="1" lang="en-US" sz="1800" spc="1" strike="noStrike">
              <a:ln w="28440">
                <a:solidFill>
                  <a:srgbClr val="ffffff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FS_Cairo"/>
              <a:ea typeface="FS_Cairo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5562720" y="1533600"/>
            <a:ext cx="3371760" cy="43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00cc00"/>
                </a:solidFill>
                <a:latin typeface="Basha 8C"/>
              </a:rPr>
              <a:t>هامبورج: مدينه فى ألمانيا .</a:t>
            </a:r>
            <a:endParaRPr b="1" lang="en-US" sz="1800" spc="1" strike="noStrike">
              <a:ln w="0">
                <a:noFill/>
              </a:ln>
              <a:solidFill>
                <a:srgbClr val="00cc00"/>
              </a:solidFill>
              <a:latin typeface="Basha 8C"/>
              <a:ea typeface="Basha 8C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195120" y="2023920"/>
            <a:ext cx="7120080" cy="519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Iceland: An island in the North Sea above Europe . 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124080" y="2486160"/>
            <a:ext cx="5810400" cy="43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00cc00"/>
                </a:solidFill>
                <a:latin typeface="Basha 8C"/>
              </a:rPr>
              <a:t>أيسلندا: جزيره فى بحر الشمال فوق أوروبا  .</a:t>
            </a:r>
            <a:endParaRPr b="1" lang="en-US" sz="1800" spc="1" strike="noStrike">
              <a:ln w="0">
                <a:noFill/>
              </a:ln>
              <a:solidFill>
                <a:srgbClr val="00cc00"/>
              </a:solidFill>
              <a:latin typeface="Basha 8C"/>
              <a:ea typeface="Basha 8C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200160" y="3024360"/>
            <a:ext cx="6662520" cy="39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Reykjavik: The capital city of Iceland .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5105520" y="3443400"/>
            <a:ext cx="382896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00cc00"/>
                </a:solidFill>
                <a:latin typeface="Basha 8C"/>
              </a:rPr>
              <a:t>ريكجافيك: عاصمة أيسلندا .</a:t>
            </a:r>
            <a:endParaRPr b="1" lang="en-US" sz="1800" spc="1" strike="noStrike">
              <a:ln w="0">
                <a:noFill/>
              </a:ln>
              <a:solidFill>
                <a:srgbClr val="00cc00"/>
              </a:solidFill>
              <a:latin typeface="Basha 8C"/>
              <a:ea typeface="Basha 8C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195120" y="3913200"/>
            <a:ext cx="6205680" cy="39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Sneffels: An axticit volcano in Iceland .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267080" y="4352760"/>
            <a:ext cx="466740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00cc00"/>
                </a:solidFill>
                <a:latin typeface="Basha 8C"/>
              </a:rPr>
              <a:t>سنيفلز: بركان خامد فى أيسلندا .</a:t>
            </a:r>
            <a:endParaRPr b="1" lang="en-US" sz="1800" spc="1" strike="noStrike">
              <a:ln w="0">
                <a:noFill/>
              </a:ln>
              <a:solidFill>
                <a:srgbClr val="00cc00"/>
              </a:solidFill>
              <a:latin typeface="Basha 8C"/>
              <a:ea typeface="Basha 8C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95120" y="4853160"/>
            <a:ext cx="6662880" cy="39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Scartaris: A high mountain in Iceland .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733920" y="5229360"/>
            <a:ext cx="520056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00cc00"/>
                </a:solidFill>
                <a:latin typeface="Basha 8C"/>
              </a:rPr>
              <a:t>سكارتاريس: جبل عالى فى أيسلندا .</a:t>
            </a:r>
            <a:endParaRPr b="1" lang="en-US" sz="1800" spc="1" strike="noStrike">
              <a:ln w="0">
                <a:noFill/>
              </a:ln>
              <a:solidFill>
                <a:srgbClr val="00cc00"/>
              </a:solidFill>
              <a:latin typeface="Basha 8C"/>
              <a:ea typeface="Basha 8C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195120" y="5718240"/>
            <a:ext cx="6662880" cy="39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Copenhagen: The capital city of Denmark .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105520" y="6138720"/>
            <a:ext cx="382896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00cc00"/>
                </a:solidFill>
                <a:latin typeface="Basha 8C"/>
              </a:rPr>
              <a:t>كوبنهاجن: عاصمة الدنمارك .</a:t>
            </a:r>
            <a:endParaRPr b="1" lang="en-US" sz="1800" spc="1" strike="noStrike">
              <a:ln w="0">
                <a:noFill/>
              </a:ln>
              <a:solidFill>
                <a:srgbClr val="00cc00"/>
              </a:solidFill>
              <a:latin typeface="Basha 8C"/>
              <a:ea typeface="Basha 8C"/>
            </a:endParaRPr>
          </a:p>
        </p:txBody>
      </p:sp>
    </p:spTree>
  </p:cSld>
  <p:transition advTm="3000">
    <p:push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195120" y="442800"/>
            <a:ext cx="82630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Stromboli: A small island off the coast of southern Italy  .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2438280" y="890640"/>
            <a:ext cx="6496200" cy="43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00cc00"/>
                </a:solidFill>
                <a:latin typeface="Basha 8C"/>
              </a:rPr>
              <a:t>سترومبولى: جزيره صغيره بعيده عن الساحل الجنوبى لإيطاليا</a:t>
            </a:r>
            <a:endParaRPr b="1" lang="en-US" sz="1800" spc="1" strike="noStrike">
              <a:ln w="0">
                <a:noFill/>
              </a:ln>
              <a:solidFill>
                <a:srgbClr val="00cc00"/>
              </a:solidFill>
              <a:latin typeface="Basha 8C"/>
              <a:ea typeface="Basha 8C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95120" y="1400040"/>
            <a:ext cx="6510600" cy="519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San Vicenzo: The largest town on Stromboli . 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124080" y="1795320"/>
            <a:ext cx="5810400" cy="43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00cc00"/>
                </a:solidFill>
                <a:latin typeface="Basha 8C"/>
              </a:rPr>
              <a:t>سان فتشنزو: أوسع بلده فى سترومبولى  .</a:t>
            </a:r>
            <a:endParaRPr b="1" lang="en-US" sz="1800" spc="1" strike="noStrike">
              <a:ln w="0">
                <a:noFill/>
              </a:ln>
              <a:solidFill>
                <a:srgbClr val="00cc00"/>
              </a:solidFill>
              <a:latin typeface="Basha 8C"/>
              <a:ea typeface="Basha 8C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195120" y="2347920"/>
            <a:ext cx="7425000" cy="39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Messina: A port on the island of Sicily, Italy .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2743200" y="2771640"/>
            <a:ext cx="619128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00cc00"/>
                </a:solidFill>
                <a:latin typeface="Basha 8C"/>
              </a:rPr>
              <a:t>ميسينا: ميناء على جزيرة صقليه فى إيطاليا .</a:t>
            </a:r>
            <a:endParaRPr b="1" lang="en-US" sz="1800" spc="1" strike="noStrike">
              <a:ln w="0">
                <a:noFill/>
              </a:ln>
              <a:solidFill>
                <a:srgbClr val="00cc00"/>
              </a:solidFill>
              <a:latin typeface="Basha 8C"/>
              <a:ea typeface="Basha 8C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95120" y="3233880"/>
            <a:ext cx="7958160" cy="39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Marseilles: A port on the southern coast of France .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2743200" y="3672000"/>
            <a:ext cx="619128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00cc00"/>
                </a:solidFill>
                <a:latin typeface="Basha 8C"/>
              </a:rPr>
              <a:t>مارسيليا: ميناء على الساحل الجنوبى لفرنسا .</a:t>
            </a:r>
            <a:endParaRPr b="1" lang="en-US" sz="1800" spc="1" strike="noStrike">
              <a:ln w="0">
                <a:noFill/>
              </a:ln>
              <a:solidFill>
                <a:srgbClr val="00cc00"/>
              </a:solidFill>
              <a:latin typeface="Basha 8C"/>
              <a:ea typeface="Basha 8C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71600" y="5715000"/>
            <a:ext cx="6172200" cy="871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Kufi14 Normal"/>
              </a:rPr>
              <a:t>إلى اللقاء مع الفصل الأول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Kufi14 Normal"/>
              <a:ea typeface="Kufi14 Normal"/>
            </a:endParaRPr>
          </a:p>
        </p:txBody>
      </p:sp>
    </p:spTree>
  </p:cSld>
  <p:transition advTm="3000">
    <p:push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0T03:57:59Z</dcterms:created>
  <dc:creator>A1-AL-FARIS</dc:creator>
  <dc:description/>
  <dc:language>en-US</dc:language>
  <cp:lastModifiedBy>Arwa</cp:lastModifiedBy>
  <dcterms:modified xsi:type="dcterms:W3CDTF">2009-09-28T19:39:53Z</dcterms:modified>
  <cp:revision>14</cp:revision>
  <dc:subject/>
  <dc:title>الشريحة 1</dc:title>
</cp:coreProperties>
</file>